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5E6-505D-43D4-AD8E-A2A6A682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EBA-4338-4148-95B5-C980A2FC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8C2-8490-4C45-A656-0CEDC202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716-BDFE-4E52-B4AC-31D46596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30B-6D58-4C58-B8BC-166F94D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E45-ACCA-4208-AE8F-71FF5F51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D5F-BEB7-47FF-BD0B-8A43C9A6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6E6-1F7B-4B80-85A9-14423F26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00F-DE58-4F31-9238-73391F5D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3D2-5E64-483E-B92D-28C80287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E92-1619-406C-A937-C175F6C3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44E-0D42-4117-85C4-F6A04B8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8AED-A171-4E02-8FC9-FA894954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20:48Z</dcterms:created>
  <dc:creator>abeason</dc:creator>
  <dc:description/>
  <dc:language>en-US</dc:language>
  <cp:lastModifiedBy>abeason</cp:lastModifiedBy>
  <dcterms:modified xsi:type="dcterms:W3CDTF">2009-01-26T19:20:52Z</dcterms:modified>
  <cp:revision>1</cp:revision>
  <dc:subject/>
  <dc:title>Slide 1</dc:title>
</cp:coreProperties>
</file>